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30603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2824200" y="685440"/>
            <a:ext cx="12096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62"/>
              </a:spcBef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fld id="{96833214-C10C-470F-B251-BB1B5CB890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824200" y="685800"/>
            <a:ext cx="1209600" cy="3429000"/>
          </a:xfrm>
          <a:prstGeom prst="rect">
            <a:avLst/>
          </a:prstGeom>
          <a:ln w="0">
            <a:noFill/>
          </a:ln>
        </p:spPr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600×170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サイズ　バナースタンド用テンプレート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ページサイズが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300×85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サイズになっています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※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当社で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600×170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まで拡大します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余白やフチが必要無い場合は端まで描画して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入稿データにする時は「名前を付けて保存」→「ＰＤＦ形式」で保存して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四隅に、直径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24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のハトメが付きます。必要なデザインや文字が重ならないようにご注意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fld id="{3A8AB271-CB60-4A6F-968E-0A7A57FB0B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0000" y="1643184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5206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2644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1252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00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82644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711252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40000" y="7161120"/>
            <a:ext cx="971964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971964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40000" y="1220760"/>
            <a:ext cx="9719640" cy="236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75"/>
              </a:spcBef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5206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豊桑麻沙</cp:lastModifiedBy>
  <dcterms:modified xsi:type="dcterms:W3CDTF">2020-01-29T05:05:55Z</dcterms:modified>
  <cp:revision>14</cp:revision>
  <dc:subject/>
  <dc:title>スライド 1</dc:title>
</cp:coreProperties>
</file>